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В18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СУЛИНИ И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АЛНИ АНТИДИЈАБАЕТИЦИ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др Јасмина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озирањ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виду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бинације различитих препар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ро, увече, об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невна доза: 0.5-1 ИЈ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/kg/da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плирати код гојазних (инсулинска резистен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Фабрички комбиноване мешавин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 -дуго делујући + кратко делујућ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РАЛНИ АНТИДИЈАБЕ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Деривати сулфонилуре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генерација: </a:t>
            </a: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толбутамид, хлорпропами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генерација: </a:t>
            </a: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глибурид, глипизид, глимепири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Меглитинид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Репаглини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Бигваниди: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Метформ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1" lang="el-GR" sz="1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 гликозидазе: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Акарбо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Тиазолидиндио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Росиглитазон, пиоглитазо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Лекови инкретинског концеп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 u="sng">
                <a:solidFill>
                  <a:srgbClr val="000000"/>
                </a:solidFill>
                <a:uFillTx/>
                <a:latin typeface="Arial"/>
              </a:rPr>
              <a:t>Аналози ГЛП 1: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Ексенатид, лираглутид </a:t>
            </a:r>
            <a:r>
              <a:rPr b="1" lang="sr-CS" sz="1000" spc="-1" strike="noStrike">
                <a:solidFill>
                  <a:srgbClr val="cc0000"/>
                </a:solidFill>
                <a:latin typeface="Arial"/>
              </a:rPr>
              <a:t>(субкутана примен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 u="sng">
                <a:solidFill>
                  <a:srgbClr val="000000"/>
                </a:solidFill>
                <a:uFillTx/>
                <a:latin typeface="Arial"/>
              </a:rPr>
              <a:t>Инхибитори ДПП 4: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Саксаглиптин, вилдаглиптин, ситаглипти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GLT</a:t>
            </a: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инхибито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Дапаглифлозин, канаглифлоз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 генерациј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лбутамид, хлорпропам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II генерациј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либурид, глипизид, глимепир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Затварање АТП зависних К ка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еполариз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Отварање Ца канала зависних од волт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овећање 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↑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лобађање инсу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М2 код негојаз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ијабетес инсипидус (хлорпропа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лаго антидиуратско деј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Хипогликемија, неутропенија, тератоге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хипонатремија, пораст апетита, неподношење алкохола (хлорпропа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нтариндикациј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рудноћа, болести јет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ривати сулфонилуре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Меглитин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паглинид, нетагли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слично сулфонилуреама: на различитим местима на АТП-зависним К каналима (затварају К канал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ослобађање инсули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онтрола постпрандијалних скокова гликемиј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ДМ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рзо и краткотрајно ослобађање инсу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оз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Непосредно пред об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есто у комбинацији са метформи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Бол у стомаку, дијареја, повраћање, опстипација, хипогликемија (благ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Бигван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Лекови: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тформин (еуглемични леков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еханизам дејства: комплекс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 u="sng">
                <a:solidFill>
                  <a:srgbClr val="000000"/>
                </a:solidFill>
                <a:uFillTx/>
                <a:latin typeface="Arial"/>
              </a:rPr>
              <a:t>Поспешује улазак глукозе у периферна тки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синтезу глукозе у јет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резистенцију на инсулин у мишићима и масном ткив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активира ћелијску АМП-киназ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ниво глукаг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 утиче на секрецију инсул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нтрола ДМ2 код неосетљивости ткива на инсулин (гојазни пацијен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Прва линија лекова у ДМ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Често у комбинацији са другим лековима (сулфонилуреама или инсулином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Лактатна-киселинска ацидоза, метални укус у устима, губитак апетита, ГИ тегобе (дијареј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не изазива хипогликемиј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през: код пацијената са бубрежним и срчаним обољењ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ХИБИТОРИ АЛФА ГЛИКОЗИД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екови: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карбоза, миглит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хибира сукразу и малтазу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гликозидаз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танком цреву, отежава дигестију дисаха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смањује апсорпцију глук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М2 који не реагује на остале лек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димање, бол у стомаку, пролив, хемијски хепатит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 изазива хипогликем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иазолидинди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ов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иоглитазон, росиглита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Агонисти рецептора који се активира пероксизо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Тип гам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AR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-везују се за рецептор праве компле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- експресија гена за ензиме дистално од инсул рецеп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Већином у периферном масном ткив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М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з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нотерапија: рет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мбинована: метформином (најчешће), дер сулфонилереје, инсули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рчана инсуфицијенција, анемија, едеми, индукција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YP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-а, пораст ЛДЛ;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Arial"/>
              </a:rPr>
              <a:t>↑Т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ретко доводе до хипогликeмиј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00"/>
                </a:solidFill>
                <a:latin typeface="Arial"/>
              </a:rPr>
              <a:t>Росиглитазон повучен из употребе због срчане инсуфицијен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кови инкретинског конце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кретин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ИТ фактори који повећавају глукозом стимулисану инсулинску секре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ајају с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лукагону сличан пептид 1 (ГЛП 1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сулинотропни полипептид зависан од глукозе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познат као гастрични инхибиторни полипептид (ГИП)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а се брзо инактивишу дејством ензим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дипептидил-пептидаза 4 (ДПП 4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кови инкретинског концеп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Леков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лози ГЛП 1(глукагону сличног пепти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енат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раглут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ДПП 4 (дипептидил-пептидазе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саглип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даглип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таглип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налози ГЛП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Леков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ексенат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лираглут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еханизма дејства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активирају рецепторе за ГЛП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екти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↑ лучење инсулина, ↓ секреције глукагона, успоравају пражњење желу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кације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М2 који не реагује добро на два 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(дериват сулфонилуреје + бигвани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cc0000"/>
                </a:solidFill>
                <a:latin typeface="Arial"/>
                <a:ea typeface="Arial"/>
              </a:rPr>
              <a:t>Субкутана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ално или са другим 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ежељена деј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, настанак АТ, ГИ тегобе, акутни пакреатитис (код предиспонираних особ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ронично обољење које настаје као последица апсолутног 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ли релативног недостатка инсулина, хормона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ћелија панкр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с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У основи апсолутног недостака инсулина је смањена синтеза и секреција инсу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У основи релативног недостатка је поремећај сензитивности рецептора и пострецеп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ских механизама, означен као инсулинска резистен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нхибитори ДПП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Леков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ксаглип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илдаглип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итаглипт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еханизам дејства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нхибиција ДПП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екти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↑ лучење инсулина, ↓ секреције глукагона, успоравају пражњење желу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кације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ДМ2 који не реагује добро на 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орал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самостално или са другим 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ежељена дејств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хипогликемија, алергијске реакције, главобоља, ГИ тегоб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GLT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br>
              <a:rPr sz="4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натријум-глукоза контранспортер 2 инхибитори) </a:t>
            </a: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ов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дапаглифло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наглифлоз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ханизам дејства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локирају транспорт глукозе из лумена тубула бубрега у крвоток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→ ↑ губитак глукозе ур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фекти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↓глукоза у крви → ↑количина трансопртера за глукозу тип 4 → ↓глуконеогенезе у је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и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орал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могу се комбиновати са другим 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жељена деј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нфекције уро тракта, хипотензиј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ретко изазивају хипогликемију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Глитаза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ков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раглитаз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саглитаз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активација ППАР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ППАР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фек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↓триглицерида и глик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дикације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00"/>
                </a:solidFill>
                <a:latin typeface="Arial"/>
              </a:rPr>
              <a:t>Проблем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↑ризик од срчане инсуфицијенције и транзиторних исхемијских 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Амилин и његови анало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м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хормон који се излучује са инсулином из бета ћелија панкреа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Ефека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е глукаг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успорава пражњење желу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осећај глади централним механиз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Леков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амлинтид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– синтетски аналог ам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Еф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кат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: помаже у регулацији гликемиј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каци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код ДМ1 и 2 који не реагују добро на уобичајену терапи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При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субкут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непосредно пред об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Нежељена дејства: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хипогликемија, ГИ тего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 који смањују учесталост компликација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Микроангиопатије: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 слободних О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радикал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мулација сорбитола у ендотелним ћел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 превенцији се корист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антиоксиданс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лфа-липоич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симптоме неуропат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инхибитори алдоза редуктаз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редукција глукозе у сорбито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палрес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порава прогресију микроангиопат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рална при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М јавља се у две форм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М тип 1- инсулин зависни дијабет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имунска или токсична деструкција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Агенси спољашње средине:  вируси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mps, Rubella, Coxsackie B4)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, токсичне хемикалије, цитотоксични агенс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код деце и адолесцен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је нагло и бур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М тип 2 - инсулин независни дијабет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сулинска резистенција, којој претходи или је чест пратилац гојазност, исхрана са превише калорија и масти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↓ физичка активност, наследна компонента и пуш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у каснијем животном добу – после 35. год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степено се разв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БЕТЕС МЕЛИ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: полиурија, полидипсија, губитак ТМ, полифагиј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следица изражене и дуготрајне хипергликемије и хиперосмотске диур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ликације Д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 компликациј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бетесна кетоацидиза, хипогликемија, хиперосмоларно стање, кома и лактатна ацид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 компликације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последица убрзане атеросклерозе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скуларне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акроангиопатија: коронарна болест, инфаркт миокарда, периферна васкуларна и цереброваскуларна болест, дијабетичко стопало (улкус стопал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икроангиопатије: дијабетесна нефропатија и ретинопат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васкуларне: моно- и полинеуропат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чење Д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јагно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Лабораторијск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гликемија (ниво глукозе у серуму) – један од 3 критерију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ликемија ујутру наште (пре доручка, након 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гладовањ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7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насумична (у било које доба дан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11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Гликемија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након оралног оптерећења са 7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 гликозе (о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TT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11,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Гликозилирани хемоглобин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b 1c)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– индекс хроничне гликорегулациј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иничка с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чењ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Нефармаколошке мер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равилна исхрана, физичка активност, самоконтрола и едукација пациј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Фармакотерап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М тип 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М тип 2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рални антидијабетици (О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Циљеви лечења ДМ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ликозилиран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7% (53mmol/molH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ликемија нашт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6mmol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ликемија постпрандијално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10mmol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рвни притисак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130/80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ДЛ холестерол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2,6 mmol/l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1,8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а КВ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Триглицерид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,7mmol/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декс ТМ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kg/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естанак пуш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станак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инсулин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инсулин + Ц пепт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Депонује се у гранулама: кристали = 6 молекула инсулина +2 атом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пешује улазак глукозе у периферна ткива и у јетру – хипогликемијски еф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пешује улазак аминокиселина у периферна ткива и у јетру и њихово складиштење – анаболички ефека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пешује гликогенезу и гликолизу и инхибира глуконеогенезу у периферним ткивим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пешује липогенезу у периферним ткив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хибира липолизу у периферним ткив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спешује гликогенезу у јетр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цептор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Трансмембрански енз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 јединиц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јединица:1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+1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субједи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000000"/>
                </a:solidFill>
                <a:latin typeface="Arial"/>
              </a:rPr>
              <a:t>ИНСУЛИН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е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тракратко делујући: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лиспр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аспа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глулиз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атко делујући: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Кристални инсул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едње-дуго делујући: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лен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30%семиленте+70 ултрален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зофан инсул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го делујући: -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ултралент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Протамин-цинк инсул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гларгин: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</a:rPr>
              <a:t>без пико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детеми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000000"/>
                </a:solidFill>
                <a:latin typeface="Arial"/>
              </a:rPr>
              <a:t>Инсулин деглуде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000000"/>
                </a:solidFill>
                <a:latin typeface="Arial"/>
              </a:rPr>
              <a:t>ИНСУЛ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дик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сулин-зависни Д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сулин-независни Д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одатак оралним хипогликемици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100" spc="-1" strike="noStrike">
                <a:solidFill>
                  <a:srgbClr val="000000"/>
                </a:solidFill>
                <a:latin typeface="Arial"/>
              </a:rPr>
              <a:t>метформ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хируршка интервен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рудноћ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ешка инфек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име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убкутана (инјекција, пумп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нтравенс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етоацид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После опера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ешке инфекциј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ежељена де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хипогликем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атрофија масног тки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езистенција или алергија на инсул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932360" y="4076640"/>
            <a:ext cx="3960720" cy="15570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ечење хипоглик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77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рална применa глук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77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50%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лук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50ml i.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9772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Глукагон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mg s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17-09-14T21:58:29Z</dcterms:modified>
  <cp:revision>10</cp:revision>
  <dc:subject/>
  <dc:title>Slide 1</dc:title>
</cp:coreProperties>
</file>